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19.jpeg" ContentType="image/jpeg"/>
  <Override PartName="/ppt/media/image22.jpeg" ContentType="image/jpeg"/>
  <Override PartName="/ppt/media/image39.png" ContentType="image/png"/>
  <Override PartName="/ppt/media/image20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28.png" ContentType="image/png"/>
  <Override PartName="/ppt/media/image7.jpeg" ContentType="image/jpeg"/>
  <Override PartName="/ppt/media/image32.png" ContentType="image/png"/>
  <Override PartName="/ppt/media/image33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37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525000" cy="7621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8EF5-91F6-4F0C-9608-685D66E9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D5B0-15DB-4C8D-B644-51FF0498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398A-27D7-45DD-B7B8-C19D545F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0B66-FA2C-4223-8D5B-9D181D7E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0528-20B4-462B-AA6D-DBA8008E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AB4E-69E9-4488-BC23-0E2BC153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22AA-CEDD-475F-B51F-D5E7292C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925C-D72C-4050-98AD-C8E815CE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2460-49DD-47B1-9791-D61F566C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E090-AC42-4FB3-8B0E-AD0B418B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B87A-B063-4976-A92C-FAC340C2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1D77-6ADB-45C2-A2FF-B427DA53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2823-63CE-4659-8E67-E6B87438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A520-3B4F-45C3-97BB-2B34F36F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C95D-5425-4ABD-BB35-8AAF2065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F0B6-5F9A-4D53-B92A-947B6A1F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79CC-C84C-4D06-A19C-9646E1D4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B5569-82CD-4D7C-9FF6-83AA5F98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B5CE5-571D-4F78-AE75-E1050E04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4D6CB-6687-43FF-ADAE-8D268B67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DC048-4134-42EC-AFF9-CDCF9350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DE4E1-7EC2-4B7F-A50D-4AE177E0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428C-F19A-4AAB-B2E1-85371614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632A0-BF0C-4FAF-AE35-8D500895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AC479-F93C-4E93-A998-169BB69C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41144-A1E5-43F0-8C8E-A7C6D37C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1FF67-026B-4298-83AE-AAC3BFD5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B8199-F6A5-4138-A7AF-B7C34900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13B05-5587-4E36-A3FC-C0D835F3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59721-17D4-4C54-AB7D-F668A3BE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99BF5-F3FB-4D10-B623-4DCD5994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72135-A726-4FCA-8FFB-3733A292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872C8-E7CD-4B34-9837-42511594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7D5E-84F6-4611-930F-C44CC104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9126D-BD6D-4C8A-8099-B8C8AAC5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E13DD-707B-4AE7-9E80-53CC4EB5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9B3BF-BF35-4C53-857D-2CB9645C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9D960-AEE4-42F6-BB58-4B7C92C5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5B850-D448-4418-B834-F6370749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15653-9269-4260-8AF3-8A91B48A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00714-C0CC-497E-AB21-BDAA65C3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F281D-5D2E-4B29-A507-7F1DDCEC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AB07A-4327-49B9-8655-F82FA9B7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B11E5-1448-4D42-823C-B8515C3C1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D2B8-9D8A-49B8-8A68-7669EA24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62522-B113-41BA-BF0D-A58DA4E0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F6169-4CE7-4631-99AF-E7BD0491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A9F60-A05F-417F-89FE-D82B757B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E3518-BA72-4A48-8314-6D5DE732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B3172-4AC8-43DE-BED1-8BC07C1D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A9FF7-9E67-4D60-9802-9DC10C0C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CF3DE-83BD-4264-8C53-BE3562F0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EB207-CFC4-4D37-ADB1-4D0B7FEE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0BA73-704A-45EE-A9F9-D9DD8D58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57AD9-D6BA-477E-8A76-9FE40DFC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B98C-44F0-4864-B48D-A9C157AA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4AB56-A4C3-491B-832F-D30897FA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0D31C-F51D-46E3-BE7F-20256860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77C29-1995-4033-A7AB-CC31DEAD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74467-A814-47A4-954F-42FA3008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7BAB7-8E89-48AA-B080-6CBCE669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08AE0-6D5D-44D3-A8DE-76CB0FE0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85952-C440-4CCC-8F05-1306D8B4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10A4F-9D2F-4D2F-B8B7-0E0BF769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A865D-A742-422C-A06B-BA24C121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6E68A-DA10-4073-82CF-01EBA490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ACA3-B248-4D55-A49D-780885E2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13543-B694-48BD-AF36-C516119F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6AA2B-5046-49B2-8F5E-8367A55C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D5581-F805-4D62-B8D1-39D57C4C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844CF-2B4A-4B05-99EF-820A189B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1CF18-7D05-4E8D-A564-48259F42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9A6A7-07EA-423C-AC47-2C7891AC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6C5B4-9EDB-49D3-A599-6E7D4DEE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29755-19A4-42C7-8CA9-5DD1F97E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9C507-FFB6-46AF-BBBC-EE69C71F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18AC7-71E2-4968-93A0-247FE5D8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FDA-5466-45C8-8A8A-6F6FE4D9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21EDB-6786-4029-A845-0E64F3F3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4B5A9-3382-43B4-BF8C-3AE05BAA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AC50A-BE1F-46DA-A41F-23E99846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28CB2-1057-46B8-9F30-10BCCB0E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C28DE-5CB3-4DE7-A55A-6628DC8E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96F1-3805-4532-98AF-499629F5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991040" y="720252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75920" y="7202520"/>
            <a:ext cx="44370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5E09-5654-450F-A96F-2AA0B1F7BDF0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802280" y="588276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428480" y="6679800"/>
            <a:ext cx="6032520" cy="4050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428480" y="6276600"/>
            <a:ext cx="6032520" cy="406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740440" y="6392880"/>
            <a:ext cx="523800" cy="404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CE52-DDAD-4DAA-B7CD-13674AF9371A}" type="slidenum"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991040" y="720108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75920" y="7202520"/>
            <a:ext cx="44370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BAC6-E3AA-4489-81E3-81E3ECE1FF1B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540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802280" y="38772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12 Conector recto"/>
          <p:cNvSpPr/>
          <p:nvPr/>
        </p:nvSpPr>
        <p:spPr>
          <a:xfrm flipH="1" flipV="1">
            <a:off x="6738480" y="1080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14 Conector recto"/>
          <p:cNvSpPr/>
          <p:nvPr/>
        </p:nvSpPr>
        <p:spPr>
          <a:xfrm flipV="1">
            <a:off x="0" y="612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7246800" y="7196040"/>
            <a:ext cx="2222640" cy="3398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728800" y="7202520"/>
            <a:ext cx="4438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802360" y="900000"/>
            <a:ext cx="523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7149-7D47-494C-A649-7AF7378FD598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990680" y="7202520"/>
            <a:ext cx="22194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76280" y="7202520"/>
            <a:ext cx="44388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905600" y="7203600"/>
            <a:ext cx="524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8CF3-B387-4C28-A819-FB70AAE46E6B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540480" y="7284600"/>
            <a:ext cx="22226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82240" y="7284600"/>
            <a:ext cx="535788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760960" y="7284600"/>
            <a:ext cx="52380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7E1D-68D7-4BA4-89FD-98CA3E61C0CB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362280" y="7284600"/>
            <a:ext cx="2189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219320" y="7286760"/>
            <a:ext cx="515448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59360" y="7284600"/>
            <a:ext cx="3812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9434-167C-4FEF-B346-C9D60E31E1EF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76280" y="1947960"/>
            <a:ext cx="8572320" cy="48592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Dirección Nacional de Aeronáutica Civil – DINAC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INFORME DE COMITÉ FAL AEROPUERTO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LIC. VICTOR VELAZQUEZ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26-07-201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2" name="3 Imagen" descr="bandera.png"/>
          <p:cNvPicPr/>
          <p:nvPr/>
        </p:nvPicPr>
        <p:blipFill>
          <a:blip r:embed="rId1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3" name="5 Imagen" descr="logo_resto.jpg"/>
          <p:cNvPicPr/>
          <p:nvPr/>
        </p:nvPicPr>
        <p:blipFill>
          <a:blip r:embed="rId2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http://www.dinac.gov.py/v2/media/k2/items/cache/71601b6fd7fc74a9f4eea8e6c1b43d35_XL.jpg"/>
          <p:cNvPicPr/>
          <p:nvPr/>
        </p:nvPicPr>
        <p:blipFill>
          <a:blip r:embed="rId3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1 Título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815320" cy="1749600"/>
          </a:xfrm>
          <a:prstGeom prst="rect">
            <a:avLst/>
          </a:prstGeom>
          <a:ln w="0">
            <a:noFill/>
          </a:ln>
        </p:spPr>
      </p:pic>
      <p:sp>
        <p:nvSpPr>
          <p:cNvPr id="420" name="1 Título"/>
          <p:cNvSpPr/>
          <p:nvPr/>
        </p:nvSpPr>
        <p:spPr>
          <a:xfrm>
            <a:off x="5119560" y="5238720"/>
            <a:ext cx="401796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1100" spc="-1" strike="noStrike">
                <a:solidFill>
                  <a:srgbClr val="000000"/>
                </a:solidFill>
                <a:latin typeface="Arial"/>
                <a:ea typeface="Arial"/>
              </a:rPr>
              <a:t>SE CONTRATO LOS SERVICIOS DE CONSULTORIA PARA LA CERTIFICACION ISO 9001/2008, DE LOS SERVICIOS AEROPORTUARIOS DEL AISP, EN TOTAL 15 PROCESOS RELACIONADOS A LA ATENCION DE PASAJEROS Y A LA SEGURIDAD OPERACIONAL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600"/>
            </a:b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1" name="Picture 5" descr="C:\Users\Usuario\Documents\ESCAN ISO.jpg"/>
          <p:cNvPicPr/>
          <p:nvPr/>
        </p:nvPicPr>
        <p:blipFill>
          <a:blip r:embed="rId2"/>
          <a:stretch/>
        </p:blipFill>
        <p:spPr>
          <a:xfrm rot="21184800">
            <a:off x="604800" y="1793880"/>
            <a:ext cx="4621320" cy="24145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Users\Usuario\AppData\Local\Microsoft\Windows\Temporary Internet Files\Low\Content.IE5\18YWFR88\IMG-20140106-WA0002[1].jpg"/>
          <p:cNvPicPr/>
          <p:nvPr/>
        </p:nvPicPr>
        <p:blipFill>
          <a:blip r:embed="rId3"/>
          <a:stretch/>
        </p:blipFill>
        <p:spPr>
          <a:xfrm>
            <a:off x="619200" y="45957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C:\Users\Usuario\AppData\Local\Microsoft\Windows\Temporary Internet Files\Low\Content.IE5\QUDQGEZE\IMG-20140106-WA0001[1].jpg"/>
          <p:cNvPicPr/>
          <p:nvPr/>
        </p:nvPicPr>
        <p:blipFill>
          <a:blip r:embed="rId4"/>
          <a:stretch/>
        </p:blipFill>
        <p:spPr>
          <a:xfrm>
            <a:off x="5119560" y="1666800"/>
            <a:ext cx="417204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3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12920" y="2770200"/>
            <a:ext cx="5024160" cy="36799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Tahoma"/>
              </a:rPr>
              <a:t>PRESENTACIÓN DEL RESULTADO DE ENCUESTAS REALIZADAS EN EL AISP 2016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000" spc="-1" strike="noStrike">
                <a:solidFill>
                  <a:srgbClr val="000000"/>
                </a:solidFill>
                <a:latin typeface="Tahoma"/>
              </a:rPr>
              <a:t>LICITACIÓN POR CONCURSO DE OFERTAS N° 29/2015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ormulario de Encuesta utilizado FL-SGC-10 V00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Periodo: 11 de Enero y el 28 de Enero del 2016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ueron encuestadas 510 personas y respondienron 315 persona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Encuestas realizadas de manera personalizad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Las encuestas se realizaron en diferentes Horarios (Madrugada,Mañana, Tarde, Noche)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Muestras tomadas en el área  de estacionamiento,  embarque y desembarque, área restringida y pública, pasajeros y acompañante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1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3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5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7" name="6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1 Título" descr=""/>
          <p:cNvPicPr/>
          <p:nvPr/>
        </p:nvPicPr>
        <p:blipFill>
          <a:blip r:embed="rId1"/>
          <a:stretch/>
        </p:blipFill>
        <p:spPr>
          <a:xfrm>
            <a:off x="139680" y="6132600"/>
            <a:ext cx="6346800" cy="1116000"/>
          </a:xfrm>
          <a:prstGeom prst="rect">
            <a:avLst/>
          </a:prstGeom>
          <a:ln w="0">
            <a:noFill/>
          </a:ln>
        </p:spPr>
      </p:pic>
      <p:pic>
        <p:nvPicPr>
          <p:cNvPr id="439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1 Título"/>
          <p:cNvSpPr/>
          <p:nvPr/>
        </p:nvSpPr>
        <p:spPr>
          <a:xfrm>
            <a:off x="262080" y="6130800"/>
            <a:ext cx="62262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600" spc="-1" strike="noStrike">
                <a:solidFill>
                  <a:srgbClr val="7f7f7f"/>
                </a:solidFill>
                <a:latin typeface="Tahoma"/>
              </a:rPr>
              <a:t>CHECK IN COMPAÑÍA AÉRE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1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3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1 Título" descr=""/>
          <p:cNvPicPr/>
          <p:nvPr/>
        </p:nvPicPr>
        <p:blipFill>
          <a:blip r:embed="rId1"/>
          <a:stretch/>
        </p:blipFill>
        <p:spPr>
          <a:xfrm>
            <a:off x="444600" y="1359000"/>
            <a:ext cx="8570880" cy="15555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369720" y="2945880"/>
            <a:ext cx="8823600" cy="3816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99000"/>
          </a:bodyPr>
          <a:p>
            <a:pPr lvl="1" marL="917640" indent="-452520">
              <a:spcBef>
                <a:spcPts val="499"/>
              </a:spcBef>
              <a:buClr>
                <a:srgbClr val="ffffff"/>
              </a:buClr>
              <a:buSzPct val="95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Reuniones en Aeropuertos Internacionale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ére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Encuesta de satisfacción:  Sistema de Gestión de calidad ISO 9001:2008 –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uditoria OACI -  5-13 de setiembre/16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sistencia de victimas de accidentes de Aviación y a sus familiares  - Anexo 12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grama FAL del Aeropuerto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917640" indent="-452520">
              <a:spcBef>
                <a:spcPts val="451"/>
              </a:spcBef>
              <a:buClr>
                <a:srgbClr val="ffffff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3 Imagen" descr="bandera.png"/>
          <p:cNvPicPr/>
          <p:nvPr/>
        </p:nvPicPr>
        <p:blipFill>
          <a:blip r:embed="rId2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8" name="5 Imagen" descr="logo_resto.jpg"/>
          <p:cNvPicPr/>
          <p:nvPr/>
        </p:nvPicPr>
        <p:blipFill>
          <a:blip r:embed="rId3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http://www.dinac.gov.py/v2/media/k2/items/cache/71601b6fd7fc74a9f4eea8e6c1b43d35_XL.jpg"/>
          <p:cNvPicPr/>
          <p:nvPr/>
        </p:nvPicPr>
        <p:blipFill>
          <a:blip r:embed="rId4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5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7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9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1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  <p:sp>
        <p:nvSpPr>
          <p:cNvPr id="453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1 Título" descr=""/>
          <p:cNvPicPr/>
          <p:nvPr/>
        </p:nvPicPr>
        <p:blipFill>
          <a:blip r:embed="rId1"/>
          <a:stretch/>
        </p:blipFill>
        <p:spPr>
          <a:xfrm>
            <a:off x="-189000" y="6046920"/>
            <a:ext cx="6450120" cy="1274760"/>
          </a:xfrm>
          <a:prstGeom prst="rect">
            <a:avLst/>
          </a:prstGeom>
          <a:ln w="0">
            <a:noFill/>
          </a:ln>
        </p:spPr>
      </p:pic>
      <p:pic>
        <p:nvPicPr>
          <p:cNvPr id="455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512640" y="5608800"/>
            <a:ext cx="8575920" cy="15541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F:\foto  aerea Drone\P1050572.JPG"/>
          <p:cNvPicPr/>
          <p:nvPr/>
        </p:nvPicPr>
        <p:blipFill>
          <a:blip r:embed="rId2"/>
          <a:stretch/>
        </p:blipFill>
        <p:spPr>
          <a:xfrm>
            <a:off x="0" y="209520"/>
            <a:ext cx="9524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1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3" name="Picture 3" descr="D:\celular 2015\07-vie-01-cp--700x559.jpeg"/>
          <p:cNvPicPr/>
          <p:nvPr/>
        </p:nvPicPr>
        <p:blipFill>
          <a:blip r:embed="rId2"/>
          <a:stretch/>
        </p:blipFill>
        <p:spPr>
          <a:xfrm>
            <a:off x="1008000" y="714240"/>
            <a:ext cx="8502840" cy="6788160"/>
          </a:xfrm>
          <a:prstGeom prst="rect">
            <a:avLst/>
          </a:prstGeom>
          <a:ln w="0">
            <a:noFill/>
          </a:ln>
        </p:spPr>
      </p:pic>
      <p:sp>
        <p:nvSpPr>
          <p:cNvPr id="324" name="1 Título"/>
          <p:cNvSpPr/>
          <p:nvPr/>
        </p:nvSpPr>
        <p:spPr>
          <a:xfrm>
            <a:off x="1041480" y="6396120"/>
            <a:ext cx="85010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sde diciembre, después de 21 años, Paraguay tiene vuelos directos a Europa, con 2 frecuencias semanales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7" descr="C:\Users\vvelazquez\AppData\Local\Microsoft\Windows\Temporary Internet Files\Content.IE5\CDT6OTXG\el-primer-vuelo-de-air-europa-entre-espana-y-paraguay-fue-recibido-esta-manana-_860_573_1314386.jpeg"/>
          <p:cNvPicPr/>
          <p:nvPr/>
        </p:nvPicPr>
        <p:blipFill>
          <a:blip r:embed="rId1"/>
          <a:stretch/>
        </p:blipFill>
        <p:spPr>
          <a:xfrm>
            <a:off x="990720" y="985680"/>
            <a:ext cx="8369280" cy="5948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2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 – AIR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17" descr="C:\Users\VVELAZ~1\AppData\Local\Temp\Rar$DI00.461\Resolucion 1362.jpg"/>
          <p:cNvPicPr/>
          <p:nvPr/>
        </p:nvPicPr>
        <p:blipFill>
          <a:blip r:embed="rId3"/>
          <a:stretch/>
        </p:blipFill>
        <p:spPr>
          <a:xfrm>
            <a:off x="990720" y="5816520"/>
            <a:ext cx="45799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4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ONECTIVIDAD A CIUDAD DEL ES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Picture 3" descr="D:\celular 2015\IMG-20150824-WA0088.jpg"/>
          <p:cNvPicPr/>
          <p:nvPr/>
        </p:nvPicPr>
        <p:blipFill>
          <a:blip r:embed="rId2"/>
          <a:stretch/>
        </p:blipFill>
        <p:spPr>
          <a:xfrm>
            <a:off x="1041480" y="1987560"/>
            <a:ext cx="8205840" cy="3801960"/>
          </a:xfrm>
          <a:prstGeom prst="rect">
            <a:avLst/>
          </a:prstGeom>
          <a:ln w="0">
            <a:noFill/>
          </a:ln>
        </p:spPr>
      </p:pic>
      <p:sp>
        <p:nvSpPr>
          <p:cNvPr id="354" name="1 Título"/>
          <p:cNvSpPr/>
          <p:nvPr/>
        </p:nvSpPr>
        <p:spPr>
          <a:xfrm>
            <a:off x="1041480" y="5792760"/>
            <a:ext cx="8205840" cy="8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Desde setiembre, Amaszonas Paraguay, realiza 2 vuelos diarios a Ciudad del Este, mejorando la conectividad aérea en nuestro país. Los pasajeros se benefician en el ahorro del tiempo de viaje, seguridad y costos competitivos.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7" descr="C:\Users\vvelazquez\AppData\Local\Microsoft\Windows\Temporary Internet Files\Content.IE5\CDT6OTXG\Scan_Pic0001.jpg"/>
          <p:cNvPicPr/>
          <p:nvPr/>
        </p:nvPicPr>
        <p:blipFill>
          <a:blip r:embed="rId1"/>
          <a:stretch/>
        </p:blipFill>
        <p:spPr>
          <a:xfrm rot="21063600">
            <a:off x="1146240" y="4511520"/>
            <a:ext cx="4084560" cy="1852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5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Inicio de vuel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Picture 2" descr="https://s3-sa-east-1.amazonaws.com/assets.abc.com.py/2016/01/07/una-de-las-aeronaves-de-sol-del-paraguay-_867_573_1321926.jpg"/>
          <p:cNvPicPr/>
          <p:nvPr/>
        </p:nvPicPr>
        <p:blipFill>
          <a:blip r:embed="rId3"/>
          <a:stretch/>
        </p:blipFill>
        <p:spPr>
          <a:xfrm>
            <a:off x="2270160" y="920880"/>
            <a:ext cx="4456080" cy="3139920"/>
          </a:xfrm>
          <a:prstGeom prst="rect">
            <a:avLst/>
          </a:prstGeom>
          <a:ln w="0">
            <a:noFill/>
          </a:ln>
        </p:spPr>
      </p:pic>
      <p:sp>
        <p:nvSpPr>
          <p:cNvPr id="370" name="1 CuadroTexto"/>
          <p:cNvSpPr/>
          <p:nvPr/>
        </p:nvSpPr>
        <p:spPr>
          <a:xfrm>
            <a:off x="1041480" y="6689880"/>
            <a:ext cx="809604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Partiendo desde el Aeropuerto Silvio Pettirossi,  a partir del 13 de enero con una capacidad para 12 pasajeros, más dos pilotos con destino a la ciudad de Encarnación y desde febrero a Pedro Juan Caballero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4" descr="C:\Users\vvelazquez\AppData\Local\Microsoft\Windows\Temporary Internet Files\Content.IE5\6ROQAQMJ\RESOLUCION Nº 15-2016.jpg"/>
          <p:cNvPicPr/>
          <p:nvPr/>
        </p:nvPicPr>
        <p:blipFill>
          <a:blip r:embed="rId4"/>
          <a:stretch/>
        </p:blipFill>
        <p:spPr>
          <a:xfrm rot="21043800">
            <a:off x="5498640" y="4211640"/>
            <a:ext cx="3903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73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vuelo inaugur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1 CuadroTexto"/>
          <p:cNvSpPr/>
          <p:nvPr/>
        </p:nvSpPr>
        <p:spPr>
          <a:xfrm>
            <a:off x="1190520" y="7037280"/>
            <a:ext cx="80964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Vuelo inaugural Asunción – Encarnación – Asunción – realizado el 12 de enero de 2016,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6" name="Picture 2" descr="C:\Users\vvelazquez\AppData\Local\Microsoft\Windows\Temporary Internet Files\Content.IE5\PWUB810O\el-brindis-de-rigor_863_573_1323629.jpeg"/>
          <p:cNvPicPr/>
          <p:nvPr/>
        </p:nvPicPr>
        <p:blipFill>
          <a:blip r:embed="rId2"/>
          <a:stretch/>
        </p:blipFill>
        <p:spPr>
          <a:xfrm>
            <a:off x="1636560" y="952560"/>
            <a:ext cx="4235760" cy="29988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aga clic en Opciones"/>
          <p:cNvPicPr/>
          <p:nvPr/>
        </p:nvPicPr>
        <p:blipFill>
          <a:blip r:embed="rId3"/>
          <a:stretch/>
        </p:blipFill>
        <p:spPr>
          <a:xfrm>
            <a:off x="4762440" y="3968640"/>
            <a:ext cx="424188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89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19 CuadroTexto"/>
          <p:cNvSpPr/>
          <p:nvPr/>
        </p:nvSpPr>
        <p:spPr>
          <a:xfrm>
            <a:off x="1243080" y="5465880"/>
            <a:ext cx="82818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ño 2016 – AISP 2 reun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ealización del 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2" name="Picture 20" descr="C:\Users\Usuario\AppData\Local\Microsoft\Windows\Temporary Internet Files\Content.IE5\FT3POMAW\FB_IMG_1464554241249.jpg"/>
          <p:cNvPicPr/>
          <p:nvPr/>
        </p:nvPicPr>
        <p:blipFill>
          <a:blip r:embed="rId2"/>
          <a:stretch/>
        </p:blipFill>
        <p:spPr>
          <a:xfrm>
            <a:off x="4079880" y="2657520"/>
            <a:ext cx="5445000" cy="3063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9" descr="C:\Users\Usuario\AppData\Local\Microsoft\Windows\Temporary Internet Files\Content.IE5\48GUUSPK\FB_IMG_1464554253751.jpg"/>
          <p:cNvPicPr/>
          <p:nvPr/>
        </p:nvPicPr>
        <p:blipFill>
          <a:blip r:embed="rId3"/>
          <a:stretch/>
        </p:blipFill>
        <p:spPr>
          <a:xfrm>
            <a:off x="946080" y="857160"/>
            <a:ext cx="4437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405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19 CuadroTexto"/>
          <p:cNvSpPr/>
          <p:nvPr/>
        </p:nvSpPr>
        <p:spPr>
          <a:xfrm>
            <a:off x="1017720" y="5249880"/>
            <a:ext cx="828180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uditoria OACI – Fecha  5-13 de setiembre/16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grama de Asistencia de victimas de accidentes de Aviación y a sus familia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del Programa FAL del Aeropuerto AIS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8" name="Picture 18" descr="C:\Users\Usuario\AppData\Local\Microsoft\Windows\Temporary Internet Files\Content.IE5\NV7QA57M\FB_IMG_1464554268984.jpg"/>
          <p:cNvPicPr/>
          <p:nvPr/>
        </p:nvPicPr>
        <p:blipFill>
          <a:blip r:embed="rId2"/>
          <a:stretch/>
        </p:blipFill>
        <p:spPr>
          <a:xfrm>
            <a:off x="1090440" y="1001880"/>
            <a:ext cx="794412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0:20Z</dcterms:created>
  <dc:creator>Margaret Kennedy</dc:creator>
  <dc:description/>
  <dc:language>en-US</dc:language>
  <cp:lastModifiedBy>Victor Velazquez</cp:lastModifiedBy>
  <cp:lastPrinted>2014-08-04T16:47:21Z</cp:lastPrinted>
  <dcterms:modified xsi:type="dcterms:W3CDTF">2016-07-26T11:19:28Z</dcterms:modified>
  <cp:revision>787</cp:revision>
  <dc:subject/>
  <dc:title>SNRE Proyecto SPR</dc:title>
</cp:coreProperties>
</file>